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5D7-3096-44F8-8E47-F6EC0247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AD5-2B18-4D4C-99F9-EC24D345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A8E-F23A-493E-901A-D4A2C08F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026-B5B7-4DC9-8B2D-17A7C61F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1EFF-E9CC-4C74-9AC6-5486981A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7294-604A-4EBC-83CA-AE569D72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C754-B823-48E9-82F2-3FB226C5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311D-3C0B-47C8-A1F4-61741616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C699-6B86-4D83-B0CF-BC5259F6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06AF-072D-4510-8A59-C2407E53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416E-1956-4B9C-AC68-B8F0A706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698-937F-4506-841B-5B2430FB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0E49-A486-4081-8302-B475D6B3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5AA5-7F3E-4954-A380-DBD49128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E930-6665-4E11-A3E6-1194FAA2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0398-8482-4A33-B089-E1607FAE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D331-A80B-4D73-BC15-0A1B7E6A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6A8-32E8-4674-B304-CE920331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8C8-8A2C-4D5C-8BB1-147B9130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D4F-34A2-4D28-8B1D-570F0E20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044-CC81-4A1D-925B-1451A7CD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BB7-FBBD-4495-A81C-E0BD073B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B59-5920-4E90-B8E4-36597030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F6D-90B1-4BDC-B26F-C1B8A6C3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6D44-2A38-4F12-A84F-8C84965354B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A5BF-C17C-483B-9519-4930D8D6693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ani &amp; Rowd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3" name="TMP4" descr=""/>
          <p:cNvPicPr/>
          <p:nvPr/>
        </p:nvPicPr>
        <p:blipFill>
          <a:blip r:embed="rId1"/>
          <a:srcRect l="0" t="0" r="2449" b="0"/>
          <a:stretch/>
        </p:blipFill>
        <p:spPr>
          <a:xfrm>
            <a:off x="1736640" y="2514600"/>
            <a:ext cx="3429000" cy="358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05440" y="3987720"/>
            <a:ext cx="458640" cy="1054080"/>
          </a:xfrm>
          <a:custGeom>
            <a:avLst/>
            <a:gdLst/>
            <a:ahLst/>
            <a:rect l="l" t="t" r="r" b="b"/>
            <a:pathLst>
              <a:path w="289" h="664">
                <a:moveTo>
                  <a:pt x="59" y="664"/>
                </a:moveTo>
                <a:cubicBezTo>
                  <a:pt x="72" y="599"/>
                  <a:pt x="80" y="520"/>
                  <a:pt x="130" y="470"/>
                </a:cubicBezTo>
                <a:cubicBezTo>
                  <a:pt x="145" y="455"/>
                  <a:pt x="167" y="448"/>
                  <a:pt x="183" y="435"/>
                </a:cubicBezTo>
                <a:cubicBezTo>
                  <a:pt x="196" y="424"/>
                  <a:pt x="206" y="411"/>
                  <a:pt x="218" y="399"/>
                </a:cubicBezTo>
                <a:cubicBezTo>
                  <a:pt x="230" y="364"/>
                  <a:pt x="242" y="329"/>
                  <a:pt x="254" y="294"/>
                </a:cubicBezTo>
                <a:cubicBezTo>
                  <a:pt x="260" y="276"/>
                  <a:pt x="265" y="259"/>
                  <a:pt x="271" y="241"/>
                </a:cubicBezTo>
                <a:cubicBezTo>
                  <a:pt x="277" y="223"/>
                  <a:pt x="289" y="188"/>
                  <a:pt x="289" y="188"/>
                </a:cubicBezTo>
                <a:cubicBezTo>
                  <a:pt x="246" y="144"/>
                  <a:pt x="124" y="0"/>
                  <a:pt x="59" y="170"/>
                </a:cubicBezTo>
                <a:cubicBezTo>
                  <a:pt x="0" y="324"/>
                  <a:pt x="59" y="499"/>
                  <a:pt x="59" y="664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99040" y="4621320"/>
            <a:ext cx="309600" cy="365040"/>
          </a:xfrm>
          <a:custGeom>
            <a:avLst/>
            <a:gdLst/>
            <a:ahLst/>
            <a:rect l="l" t="t" r="r" b="b"/>
            <a:pathLst>
              <a:path w="195" h="230">
                <a:moveTo>
                  <a:pt x="195" y="0"/>
                </a:moveTo>
                <a:cubicBezTo>
                  <a:pt x="160" y="12"/>
                  <a:pt x="125" y="15"/>
                  <a:pt x="106" y="53"/>
                </a:cubicBezTo>
                <a:cubicBezTo>
                  <a:pt x="81" y="103"/>
                  <a:pt x="71" y="159"/>
                  <a:pt x="53" y="212"/>
                </a:cubicBezTo>
                <a:cubicBezTo>
                  <a:pt x="47" y="230"/>
                  <a:pt x="18" y="224"/>
                  <a:pt x="0" y="230"/>
                </a:cubicBezTo>
                <a:cubicBezTo>
                  <a:pt x="31" y="140"/>
                  <a:pt x="38" y="85"/>
                  <a:pt x="124" y="36"/>
                </a:cubicBezTo>
                <a:cubicBezTo>
                  <a:pt x="147" y="23"/>
                  <a:pt x="171" y="12"/>
                  <a:pt x="195" y="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TMP3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91160" y="4229280"/>
            <a:ext cx="549000" cy="672840"/>
          </a:xfrm>
          <a:custGeom>
            <a:avLst/>
            <a:gdLst/>
            <a:ahLst/>
            <a:rect l="l" t="t" r="r" b="b"/>
            <a:pathLst>
              <a:path w="346" h="424">
                <a:moveTo>
                  <a:pt x="346" y="18"/>
                </a:moveTo>
                <a:cubicBezTo>
                  <a:pt x="322" y="42"/>
                  <a:pt x="286" y="57"/>
                  <a:pt x="275" y="89"/>
                </a:cubicBezTo>
                <a:cubicBezTo>
                  <a:pt x="250" y="162"/>
                  <a:pt x="273" y="132"/>
                  <a:pt x="204" y="177"/>
                </a:cubicBezTo>
                <a:cubicBezTo>
                  <a:pt x="198" y="195"/>
                  <a:pt x="199" y="215"/>
                  <a:pt x="187" y="230"/>
                </a:cubicBezTo>
                <a:cubicBezTo>
                  <a:pt x="174" y="247"/>
                  <a:pt x="145" y="247"/>
                  <a:pt x="134" y="265"/>
                </a:cubicBezTo>
                <a:cubicBezTo>
                  <a:pt x="114" y="297"/>
                  <a:pt x="111" y="336"/>
                  <a:pt x="99" y="371"/>
                </a:cubicBezTo>
                <a:cubicBezTo>
                  <a:pt x="93" y="389"/>
                  <a:pt x="81" y="424"/>
                  <a:pt x="81" y="424"/>
                </a:cubicBezTo>
                <a:cubicBezTo>
                  <a:pt x="0" y="301"/>
                  <a:pt x="14" y="105"/>
                  <a:pt x="116" y="0"/>
                </a:cubicBezTo>
                <a:cubicBezTo>
                  <a:pt x="151" y="12"/>
                  <a:pt x="187" y="24"/>
                  <a:pt x="222" y="36"/>
                </a:cubicBezTo>
                <a:cubicBezTo>
                  <a:pt x="240" y="42"/>
                  <a:pt x="258" y="61"/>
                  <a:pt x="275" y="53"/>
                </a:cubicBezTo>
                <a:cubicBezTo>
                  <a:pt x="299" y="41"/>
                  <a:pt x="322" y="30"/>
                  <a:pt x="346" y="18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89360" y="2664000"/>
            <a:ext cx="1084320" cy="1519200"/>
          </a:xfrm>
          <a:custGeom>
            <a:avLst/>
            <a:gdLst/>
            <a:ahLst/>
            <a:rect l="l" t="t" r="r" b="b"/>
            <a:pathLst>
              <a:path w="683" h="957">
                <a:moveTo>
                  <a:pt x="629" y="457"/>
                </a:moveTo>
                <a:cubicBezTo>
                  <a:pt x="641" y="528"/>
                  <a:pt x="653" y="598"/>
                  <a:pt x="664" y="669"/>
                </a:cubicBezTo>
                <a:cubicBezTo>
                  <a:pt x="670" y="710"/>
                  <a:pt x="682" y="792"/>
                  <a:pt x="682" y="792"/>
                </a:cubicBezTo>
                <a:cubicBezTo>
                  <a:pt x="676" y="816"/>
                  <a:pt x="683" y="847"/>
                  <a:pt x="664" y="863"/>
                </a:cubicBezTo>
                <a:cubicBezTo>
                  <a:pt x="621" y="900"/>
                  <a:pt x="406" y="927"/>
                  <a:pt x="364" y="933"/>
                </a:cubicBezTo>
                <a:cubicBezTo>
                  <a:pt x="346" y="939"/>
                  <a:pt x="329" y="957"/>
                  <a:pt x="311" y="951"/>
                </a:cubicBezTo>
                <a:cubicBezTo>
                  <a:pt x="251" y="931"/>
                  <a:pt x="237" y="833"/>
                  <a:pt x="223" y="792"/>
                </a:cubicBezTo>
                <a:cubicBezTo>
                  <a:pt x="217" y="774"/>
                  <a:pt x="205" y="739"/>
                  <a:pt x="205" y="739"/>
                </a:cubicBezTo>
                <a:cubicBezTo>
                  <a:pt x="199" y="692"/>
                  <a:pt x="200" y="644"/>
                  <a:pt x="188" y="598"/>
                </a:cubicBezTo>
                <a:cubicBezTo>
                  <a:pt x="183" y="578"/>
                  <a:pt x="162" y="564"/>
                  <a:pt x="153" y="545"/>
                </a:cubicBezTo>
                <a:cubicBezTo>
                  <a:pt x="108" y="455"/>
                  <a:pt x="62" y="360"/>
                  <a:pt x="29" y="263"/>
                </a:cubicBezTo>
                <a:cubicBezTo>
                  <a:pt x="48" y="63"/>
                  <a:pt x="0" y="68"/>
                  <a:pt x="153" y="16"/>
                </a:cubicBezTo>
                <a:cubicBezTo>
                  <a:pt x="218" y="22"/>
                  <a:pt x="291" y="0"/>
                  <a:pt x="347" y="34"/>
                </a:cubicBezTo>
                <a:cubicBezTo>
                  <a:pt x="392" y="61"/>
                  <a:pt x="394" y="128"/>
                  <a:pt x="417" y="175"/>
                </a:cubicBezTo>
                <a:cubicBezTo>
                  <a:pt x="424" y="190"/>
                  <a:pt x="441" y="198"/>
                  <a:pt x="453" y="210"/>
                </a:cubicBezTo>
                <a:cubicBezTo>
                  <a:pt x="480" y="292"/>
                  <a:pt x="522" y="457"/>
                  <a:pt x="629" y="457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15240" y="3110040"/>
            <a:ext cx="1925640" cy="1282680"/>
          </a:xfrm>
          <a:custGeom>
            <a:avLst/>
            <a:gdLst/>
            <a:ahLst/>
            <a:rect l="l" t="t" r="r" b="b"/>
            <a:pathLst>
              <a:path w="1213" h="808">
                <a:moveTo>
                  <a:pt x="92" y="35"/>
                </a:moveTo>
                <a:cubicBezTo>
                  <a:pt x="122" y="124"/>
                  <a:pt x="85" y="213"/>
                  <a:pt x="57" y="300"/>
                </a:cubicBezTo>
                <a:cubicBezTo>
                  <a:pt x="51" y="341"/>
                  <a:pt x="51" y="383"/>
                  <a:pt x="39" y="423"/>
                </a:cubicBezTo>
                <a:cubicBezTo>
                  <a:pt x="33" y="443"/>
                  <a:pt x="0" y="455"/>
                  <a:pt x="4" y="476"/>
                </a:cubicBezTo>
                <a:cubicBezTo>
                  <a:pt x="8" y="497"/>
                  <a:pt x="39" y="499"/>
                  <a:pt x="57" y="511"/>
                </a:cubicBezTo>
                <a:cubicBezTo>
                  <a:pt x="113" y="427"/>
                  <a:pt x="72" y="465"/>
                  <a:pt x="198" y="423"/>
                </a:cubicBezTo>
                <a:cubicBezTo>
                  <a:pt x="216" y="417"/>
                  <a:pt x="251" y="405"/>
                  <a:pt x="251" y="405"/>
                </a:cubicBezTo>
                <a:cubicBezTo>
                  <a:pt x="399" y="419"/>
                  <a:pt x="546" y="430"/>
                  <a:pt x="692" y="458"/>
                </a:cubicBezTo>
                <a:cubicBezTo>
                  <a:pt x="795" y="563"/>
                  <a:pt x="661" y="411"/>
                  <a:pt x="745" y="723"/>
                </a:cubicBezTo>
                <a:cubicBezTo>
                  <a:pt x="750" y="743"/>
                  <a:pt x="782" y="745"/>
                  <a:pt x="798" y="758"/>
                </a:cubicBezTo>
                <a:cubicBezTo>
                  <a:pt x="811" y="769"/>
                  <a:pt x="821" y="782"/>
                  <a:pt x="833" y="794"/>
                </a:cubicBezTo>
                <a:cubicBezTo>
                  <a:pt x="868" y="788"/>
                  <a:pt x="923" y="808"/>
                  <a:pt x="939" y="776"/>
                </a:cubicBezTo>
                <a:cubicBezTo>
                  <a:pt x="973" y="708"/>
                  <a:pt x="957" y="624"/>
                  <a:pt x="957" y="547"/>
                </a:cubicBezTo>
                <a:cubicBezTo>
                  <a:pt x="957" y="400"/>
                  <a:pt x="945" y="252"/>
                  <a:pt x="939" y="105"/>
                </a:cubicBezTo>
                <a:cubicBezTo>
                  <a:pt x="913" y="241"/>
                  <a:pt x="951" y="159"/>
                  <a:pt x="869" y="229"/>
                </a:cubicBezTo>
                <a:cubicBezTo>
                  <a:pt x="844" y="251"/>
                  <a:pt x="798" y="300"/>
                  <a:pt x="798" y="300"/>
                </a:cubicBezTo>
                <a:cubicBezTo>
                  <a:pt x="669" y="278"/>
                  <a:pt x="679" y="292"/>
                  <a:pt x="639" y="176"/>
                </a:cubicBezTo>
                <a:cubicBezTo>
                  <a:pt x="777" y="85"/>
                  <a:pt x="1213" y="151"/>
                  <a:pt x="851" y="105"/>
                </a:cubicBezTo>
                <a:cubicBezTo>
                  <a:pt x="768" y="79"/>
                  <a:pt x="702" y="26"/>
                  <a:pt x="621" y="0"/>
                </a:cubicBezTo>
                <a:cubicBezTo>
                  <a:pt x="492" y="12"/>
                  <a:pt x="362" y="22"/>
                  <a:pt x="233" y="35"/>
                </a:cubicBezTo>
                <a:cubicBezTo>
                  <a:pt x="86" y="50"/>
                  <a:pt x="92" y="100"/>
                  <a:pt x="92" y="35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51051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HOLIDAYING IN MIAMI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1" name="Tmp2" descr=""/>
          <p:cNvPicPr/>
          <p:nvPr/>
        </p:nvPicPr>
        <p:blipFill>
          <a:blip r:embed="rId1"/>
          <a:srcRect l="0" t="0" r="0" b="41855"/>
          <a:stretch/>
        </p:blipFill>
        <p:spPr>
          <a:xfrm>
            <a:off x="990720" y="2514600"/>
            <a:ext cx="58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52" name="Tmp4" descr=""/>
          <p:cNvPicPr/>
          <p:nvPr/>
        </p:nvPicPr>
        <p:blipFill>
          <a:blip r:embed="rId2"/>
          <a:srcRect l="12755" t="0" r="0" b="0"/>
          <a:stretch/>
        </p:blipFill>
        <p:spPr>
          <a:xfrm>
            <a:off x="6400800" y="2895480"/>
            <a:ext cx="18223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02:57:16Z</dcterms:created>
  <dc:creator>PADDY</dc:creator>
  <dc:description/>
  <dc:language>en-US</dc:language>
  <cp:lastModifiedBy>Ravi Rajagopalan</cp:lastModifiedBy>
  <dcterms:modified xsi:type="dcterms:W3CDTF">2000-06-18T05:16:00Z</dcterms:modified>
  <cp:revision>2</cp:revision>
  <dc:subject/>
  <dc:title>RAVI</dc:title>
</cp:coreProperties>
</file>